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B3F9-704C-4219-BF3D-14C119CB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F556-55F5-4D77-8239-73FA28B5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4F87-BFF4-42C1-AF15-F3A0B3975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8F08-7A04-4811-B984-153647950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64AB-68EC-44D3-8303-F78C665F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13E9-626A-4397-8338-D433F685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1A27-7E2A-457D-B634-06E4B8A6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D57B-1164-45F3-99BA-EC1A0328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E66C-D7DA-4B69-8B7F-F8C54FE7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16B9-0156-46FC-A720-B4B72450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7AA2-5A75-4FCA-93D4-35E1FAA5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51D2-C9C0-4300-95ED-E7C750B8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56CA-9331-46E6-86E0-1F785B405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ymorphis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hapter explai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polymorp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arry out 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o use polymorp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placed two items in an arrayList – stored as Object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copied an item from the list into Object object and copied it back into Shape object using c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 for ca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is a strongly typed language - however In some situations it is necessary to assign an object of one class to a variable of another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re square = new Square (10, 1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shape = squa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 diagram for Shapes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1981080"/>
            <a:ext cx="205740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3505320"/>
            <a:ext cx="20574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5105520"/>
            <a:ext cx="167616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76920" y="5105520"/>
            <a:ext cx="167616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200400" y="472392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4495680" y="472392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419720" y="3123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ignment moves Square up the hierarc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not move something across the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ssign up the tree without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ssign down the tree but you must be explicit and use c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llegal, fundamental differences between the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methods defined by that class or it’s super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3352680"/>
            <a:ext cx="18288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76920" y="3352680"/>
            <a:ext cx="18288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3809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33920" y="3618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 the tree - leg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methods of the superclass guaranteed to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7400" y="4267080"/>
            <a:ext cx="18288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3124080"/>
            <a:ext cx="190512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124080" y="335268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 the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re - c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3733920"/>
            <a:ext cx="182880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2362320"/>
            <a:ext cx="19810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047760" y="289548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object = new Object (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re squa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re = object; // not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bclass usually provides methods additional to those in the super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int getArea( 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size * size; 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 object = new Object(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 square = obje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area = square.getArea(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flagged by compiler all objects do not have get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uare square = (Square) object; // is 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nciples of Polymorph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Objects always retains the identification of the class from which they were created, can be converted into an object of another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hen a method is used on an object, the method associated with the class of the object is alway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s for assigning an object to a variable of another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not assign across the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ssign up the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ssign down the tree but must use 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imple example: Sphere and Bub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ere sphere = new Sphere(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bble bubble = new Bubble(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: each class has a display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e.display(pape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bble.display(pape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all produces the correct version of ‘display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morphism in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this chapter we use the example of a program that displays graphical shapes: squares, circles et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73356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gram uses an abstract class named ‘Shape’ which describes the shared attributes and where they will be on the screen (see chapter 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abstract class Shape {\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tected int x, 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ed int size = 2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abstract void display ( Graphics drawArea) {  …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 Circle and Square page 4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Shape pages 430-4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ymorphism in 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thod display is called within the for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.display.paper;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s = 0; s &lt; group.ize; s++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 item = group.get(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pe shape = (Shape) it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pe display(pap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ppens with both Square and Ci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le draws an oval, Square draws a rectang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yList ‘group’ (see chapter 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method is called polymorphism makes sure the correct method is se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s.display(paper)…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shape instanceof Circ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le circle = shap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le.display(pap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n if test for 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.display(paper); knows nothing of the possible variety of objects that may be used as the value of Sha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ormation Hiding present in O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ay add other shapes and no modification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gram is enormously flex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morphism enhances modularity, reusa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hapes casting was used. Circle and Square in an array (objects of the class Object – Object is the superclass of all clas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.add(circl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.add(square);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item = group.get(O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s an item from any group into the variable i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 shape = (Shape) i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– cast  back into Shape object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pe.display(pape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7:27:54Z</dcterms:created>
  <dc:creator> </dc:creator>
  <dc:description/>
  <dc:language>en-US</dc:language>
  <cp:lastModifiedBy> </cp:lastModifiedBy>
  <dcterms:modified xsi:type="dcterms:W3CDTF">2005-05-12T18:34:36Z</dcterms:modified>
  <cp:revision>3</cp:revision>
  <dc:subject/>
  <dc:title>Polymorphism Chapter 25</dc:title>
</cp:coreProperties>
</file>